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2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27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3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chimes.wav" ContentType="audio/x-wav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5.xml" ContentType="application/vnd.openxmlformats-officedocument.presentationml.comments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7T22:33:55.358000000" idx="2">
    <p:pos x="5357" y="164"/>
    <p:text/>
  </p:cm>
</p:cmLst>
</file>

<file path=ppt/comments/comment5.xml><?xml version="1.0" encoding="utf-8"?>
<p:cmLst xmlns:p="http://schemas.openxmlformats.org/presentationml/2006/main">
  <p:cm authorId="0" dt="2016-08-27T22:33:45.491000000" idx="1">
    <p:pos x="370" y="400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625-2969-431B-B584-F2BE7C4A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A34-9EB6-446D-9F61-3D2C7E2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E70D7-51F0-45C5-BD4E-F83E626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F776D-BC42-4DFB-BDB6-301E9ABF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22DCB-2C7D-4CD3-A82A-817FC4E4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75C55-6BBE-4EF1-8512-56A7DB1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7A6DA-8A8F-47C5-BB31-79C58DA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8129-EF1F-49B0-B3D8-9298379B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CBD1A-8826-433E-B808-55766C88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ECA9-DD8D-4D30-8E76-6A18960E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169DD-D6F9-4C04-A0F1-1ADB1526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2D28B-ADD6-4A1F-ACD2-4CE6839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793-C901-47CD-BF48-D3E28EEE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AE77-6441-4DF3-AB62-927F7376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D7033-37F1-4714-938E-DB8145CC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2A9A7-35F5-4D72-BA7B-8A47AB46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41F7C-1FF4-42E3-805B-53A4985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E8376-4A64-4E33-BBDC-9CA16F82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D739C-63E4-4E75-80E8-D92080F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B2CD9-6F82-4E8B-85EB-BB52D207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5B4F-F48D-4D88-A517-18D2F70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547DA-AFE5-40DD-861B-11C42EB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B130D-BEED-40A9-ADE2-67D47A99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BE4-A8CA-495D-BC66-0465FCAF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AB9A3-839B-4F14-85A4-446138B4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E485-A273-4169-9E4A-D4495E58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FD9F-8CEF-4526-A59A-FABC9B6A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8CA54-6538-4925-A817-2EC0003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F1926-0680-4761-A457-469CFAE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C302-7173-4682-B3A4-4568F9D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EF50-85AD-4A3D-913D-11BCED1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222C3-DAC5-4E6B-98C5-75E0FB4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05CA-CED8-49DF-AAF1-0C21275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36ED4-AC14-4C6B-BCB3-5D15898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A67-0540-4FD6-9679-4CF99855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7363-DC65-4444-AABE-C6009CD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26261-7153-4FFD-8D57-07AFD95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1F5D9-4EA9-4E6F-87EE-A0102D7F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513F-2031-4D56-8372-A99A5A01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38648-B8E2-4254-9081-EC62E452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C65B0-7FE3-4356-952F-96EAAB9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FF064-023A-4369-B23D-5BC92C8D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328CA-8EC4-4F0F-9148-3ACCA6B4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26AAD-DF44-4596-B9E0-F1E5729E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12EEE-E163-4F4A-A6EA-305AC8D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32E-54E2-4875-9126-D6E26DE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CC1AC-3AC6-4CA6-A6DB-75A77D68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4AF2-7B5D-4B7E-A9CF-9C2B4A5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C54D-5A44-4E32-B83F-1077509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2E046-CE56-4154-BC93-30714C42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8BFFC-0C84-495B-80CC-A8EC51D0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5F3-87A7-45B6-B55E-73F084C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7D43-DFD1-45B3-8DBF-39CA0FB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25B5-EC4D-4374-B465-3131F96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4D2F-FA1C-43A4-99A6-5E8FCA47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5B4-9862-4BA5-BF31-19E7AEDB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336-3FCD-41AD-8B7E-64D3EDB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C50-B2A5-433C-AC49-A6073C2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BB9-B1B8-48AD-9D89-2F34E4A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174-1F2C-4B46-8A3A-FA8E5B9A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96FA-E577-4FCD-9A15-08AB1A94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B50-962D-4896-A5A4-4845984E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8632-6BF0-407D-9D92-68A6637B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0A36-C5B4-4CAC-8F3F-88ADC73C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2BBB-F5A4-4DD8-B82F-434D1C9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38E6-EBE5-4BC3-9706-506F829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B557-4263-41DC-B651-9B5947F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F39-10E7-49C7-A056-C57510D0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02CE-BA26-46FA-B36E-7A9F58B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1819-C91A-43D0-9096-D64516B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CD79A-1642-4270-8303-029FCDF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7A99-D767-4557-91CB-5BBCF8F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4FEA-D570-49F9-A26E-50732B4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93BD-F428-4FD1-B203-ACFAB94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052E-EAE5-4073-B143-266A6EFC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4E9A-4B5A-494F-A465-E187D051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9A75-6AA3-49C9-AD22-8F8224DE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1B59-789B-49B5-AF16-4DA00EB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151-9806-4DF6-8BE0-FBA9C7B7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5E63-2F20-451E-A126-78C0441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5BF1-CEC6-4CF9-860D-428C3B41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C5B4-C650-4CBB-B136-B23708E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34C3-165D-4DBB-8AF0-1AE820F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7D3F-840E-42A3-98D1-E313771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B47F-56CC-4918-8822-A3EBCADA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C052-43E4-4547-826E-9ECC2B03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F310-7DA5-4090-A195-D2AE86EB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362D-4AB7-414E-BE21-AB213773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C2DA-0D34-41B2-9BAA-7ADAFF71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C8A-EC78-467D-A1CB-6A1C12E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39DC-22CB-4BD5-B7EA-8D8DE85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C464-56CD-4862-A291-A80D172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DDC9-55B2-476B-A15F-2EB31456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1930-AF17-4C35-B629-2C00CF0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F801-D2F6-46A3-8014-E3DE422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E888-4066-490F-A32B-9BC9AB3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C43B-5EF6-43CA-86A9-4421958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DC6C-4A5C-46B3-B4C7-BFC47F0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F16C-2E4E-43BB-94F6-CBBC9426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CDC8-106F-4349-9CD8-A3C26A44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425-B64B-4243-A942-C9482D6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9B20-A11D-4595-8EF0-692AA59D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4911-E2E3-4D22-A867-DCC7CCEE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8C71-5DE8-4E6D-8121-36CD9F1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8679-BFC4-4802-818A-F2E7207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503C-F9E3-46FF-9415-9527C66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364C-2D61-4D26-9179-866BD098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3956-6E62-4CF1-88DD-C4C2B36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E287-17FF-4AAF-AF1C-BB969AD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80B3E-7000-4506-A623-3281284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1A6C-B7C8-4A23-8DF9-F614A53F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F37-D014-45BD-92CA-5C7AD4C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F233-9CB5-458C-87E5-3BA51CD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A03F-A256-44CC-A433-81A925D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9B4F-FA1D-4232-8F3B-3E511F5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9322-323C-4192-B48F-1BB0F5FC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F940-0EE9-47BD-98AF-3DB0C4E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BC74-3367-44A3-ADA8-110D0B3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8B02-5D5B-48A4-9688-E6F20AF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650C-D3A3-4956-95B3-35CD8316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7E7E-5BB9-422B-98BE-99E65CB8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3997-D011-4AED-8652-87C7EDE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323-8247-4254-A4BA-91BD08E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D6C1-C4E2-4238-888D-E5EE2A5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68BD-FE35-4C8A-A2AF-C78400E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0461-F67B-49BC-A7C5-E6F059D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BE6B6-3C51-446A-AD32-5BA04CB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D2F4-66DC-4A02-8CF0-E88B6D53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1B59-41DC-44C1-8663-347015E5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24BF-7905-4681-B522-A35021F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0124-CAE6-417A-9433-7996448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C5008-D354-49C2-9AB1-92FC634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02FF-0B63-4523-AF4C-F94BD3E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DD6-4490-42D6-9549-62CE1DB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4079-0212-4A37-85C0-A69B4BA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3821-E499-4590-A9DD-77071F8F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412F-D572-435C-9A2A-FB41CDF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4CB2-E17C-4301-9238-0EE0DFB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0195F-8AB0-4991-9085-E6FE2289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8ACF-ABB8-4D91-8C7C-D4676973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92FC-05B4-427A-8257-E48DF6A6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F6173-E0B1-438B-BAA6-39AE4C18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93EC7-D8A0-4BC6-8097-96AB97F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A4CB4-96E0-42FC-9743-AAAB352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891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891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891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891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891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891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891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451-2FC1-4425-B81B-FDEC31CF2D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594-1807-4D47-AABB-358834777AF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426-1CAE-4D75-974C-FE4EE74CF9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9AC-AFAF-4CA9-AB17-6AE7F1DFF4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993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993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993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994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994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994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994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F992-1E9D-4A47-95DF-002EFE898F5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C3F-D165-43FC-9047-28D6C0F62BD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805-27E3-4CFF-895F-108BCFF7ED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43B-2BB1-4F18-86C8-93312F3662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528-7C52-4AED-ACA8-D962C555DF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9C8-928C-489A-B5B1-B51F0D2B87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F89-15E7-445B-ACAF-4550E5F278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6CBA-31F7-47FE-BF9B-CC1DA6B3E42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椭圆 5"/>
          <p:cNvSpPr/>
          <p:nvPr/>
        </p:nvSpPr>
        <p:spPr>
          <a:xfrm>
            <a:off x="714240" y="85716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天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椭圆 11"/>
          <p:cNvSpPr/>
          <p:nvPr/>
        </p:nvSpPr>
        <p:spPr>
          <a:xfrm>
            <a:off x="3357720" y="7858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地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椭圆 12"/>
          <p:cNvSpPr/>
          <p:nvPr/>
        </p:nvSpPr>
        <p:spPr>
          <a:xfrm>
            <a:off x="6143760" y="85716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人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椭圆 6"/>
          <p:cNvSpPr/>
          <p:nvPr/>
        </p:nvSpPr>
        <p:spPr>
          <a:xfrm>
            <a:off x="3416400" y="35002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我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椭圆 7"/>
          <p:cNvSpPr/>
          <p:nvPr/>
        </p:nvSpPr>
        <p:spPr>
          <a:xfrm>
            <a:off x="6215040" y="342900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他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714240" y="350028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你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3" descr="0.jpg"/>
          <p:cNvPicPr/>
          <p:nvPr/>
        </p:nvPicPr>
        <p:blipFill>
          <a:blip r:embed="rId1"/>
          <a:stretch/>
        </p:blipFill>
        <p:spPr>
          <a:xfrm>
            <a:off x="3857760" y="3443400"/>
            <a:ext cx="4714920" cy="34146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4" descr="300.jpg"/>
          <p:cNvPicPr/>
          <p:nvPr/>
        </p:nvPicPr>
        <p:blipFill>
          <a:blip r:embed="rId2"/>
          <a:stretch/>
        </p:blipFill>
        <p:spPr>
          <a:xfrm>
            <a:off x="214200" y="285840"/>
            <a:ext cx="3071880" cy="40719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5" descr="XmJU6Y1HTa--FJJrgPJXp7-FN6G7xN62XLYt83krfaG-PPyq4BCDi5w34-I3Z15FCjM_FsO3sW809PHY7spB8g.jpg"/>
          <p:cNvPicPr/>
          <p:nvPr/>
        </p:nvPicPr>
        <p:blipFill>
          <a:blip r:embed="rId3"/>
          <a:stretch/>
        </p:blipFill>
        <p:spPr>
          <a:xfrm>
            <a:off x="3857760" y="500040"/>
            <a:ext cx="4717800" cy="3146400"/>
          </a:xfrm>
          <a:prstGeom prst="rect">
            <a:avLst/>
          </a:prstGeom>
          <a:ln w="0">
            <a:noFill/>
          </a:ln>
        </p:spPr>
      </p:pic>
      <p:sp>
        <p:nvSpPr>
          <p:cNvPr id="591" name="椭圆 6"/>
          <p:cNvSpPr/>
          <p:nvPr/>
        </p:nvSpPr>
        <p:spPr>
          <a:xfrm>
            <a:off x="6215040" y="5143680"/>
            <a:ext cx="1214640" cy="642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椭圆 7"/>
          <p:cNvSpPr/>
          <p:nvPr/>
        </p:nvSpPr>
        <p:spPr>
          <a:xfrm>
            <a:off x="6072120" y="866880"/>
            <a:ext cx="1500120" cy="704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椭圆 8"/>
          <p:cNvSpPr/>
          <p:nvPr/>
        </p:nvSpPr>
        <p:spPr>
          <a:xfrm>
            <a:off x="1143000" y="1143000"/>
            <a:ext cx="1500120" cy="771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4" name="组合 14"/>
          <p:cNvGrpSpPr/>
          <p:nvPr/>
        </p:nvGrpSpPr>
        <p:grpSpPr>
          <a:xfrm>
            <a:off x="6643800" y="142920"/>
            <a:ext cx="2071440" cy="704880"/>
            <a:chOff x="6643800" y="142920"/>
            <a:chExt cx="2071440" cy="704880"/>
          </a:xfrm>
        </p:grpSpPr>
        <p:sp>
          <p:nvSpPr>
            <p:cNvPr id="595" name="椭圆 9"/>
            <p:cNvSpPr/>
            <p:nvPr/>
          </p:nvSpPr>
          <p:spPr>
            <a:xfrm>
              <a:off x="6643800" y="142920"/>
              <a:ext cx="2071440" cy="70488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TextBox 10"/>
            <p:cNvSpPr/>
            <p:nvPr/>
          </p:nvSpPr>
          <p:spPr>
            <a:xfrm>
              <a:off x="7121520" y="214200"/>
              <a:ext cx="115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彻</a:t>
              </a: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Franklin Gothic Book"/>
                  <a:ea typeface="黑体"/>
                </a:rPr>
                <a:t>天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彻</a:t>
              </a: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Franklin Gothic Book"/>
                  <a:ea typeface="黑体"/>
                </a:rPr>
                <a:t>地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7" name="图片 11" descr="QQ图片20160821210810.png"/>
          <p:cNvPicPr/>
          <p:nvPr/>
        </p:nvPicPr>
        <p:blipFill>
          <a:blip r:embed="rId4"/>
          <a:stretch/>
        </p:blipFill>
        <p:spPr>
          <a:xfrm>
            <a:off x="214200" y="3500280"/>
            <a:ext cx="3143520" cy="3210120"/>
          </a:xfrm>
          <a:prstGeom prst="rect">
            <a:avLst/>
          </a:prstGeom>
          <a:ln w="0">
            <a:noFill/>
          </a:ln>
        </p:spPr>
      </p:pic>
      <p:sp>
        <p:nvSpPr>
          <p:cNvPr id="598" name="椭圆 13"/>
          <p:cNvSpPr/>
          <p:nvPr/>
        </p:nvSpPr>
        <p:spPr>
          <a:xfrm>
            <a:off x="1571760" y="4643280"/>
            <a:ext cx="1143000" cy="704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IMG_4354.JPG"/>
          <p:cNvPicPr/>
          <p:nvPr/>
        </p:nvPicPr>
        <p:blipFill>
          <a:blip r:embed="rId1"/>
          <a:stretch/>
        </p:blipFill>
        <p:spPr>
          <a:xfrm>
            <a:off x="142920" y="428760"/>
            <a:ext cx="4232160" cy="564336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" descr="IMG_4356.JPG"/>
          <p:cNvPicPr/>
          <p:nvPr/>
        </p:nvPicPr>
        <p:blipFill>
          <a:blip r:embed="rId2"/>
          <a:stretch/>
        </p:blipFill>
        <p:spPr>
          <a:xfrm>
            <a:off x="4643280" y="35712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601" name="椭圆 4"/>
          <p:cNvSpPr/>
          <p:nvPr/>
        </p:nvSpPr>
        <p:spPr>
          <a:xfrm>
            <a:off x="1000080" y="1643040"/>
            <a:ext cx="642960" cy="642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椭圆 5"/>
          <p:cNvSpPr/>
          <p:nvPr/>
        </p:nvSpPr>
        <p:spPr>
          <a:xfrm>
            <a:off x="5500800" y="1143000"/>
            <a:ext cx="571320" cy="642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42542aef-8900-4e1d-8ea4-923074b7181d_500.jpg"/>
          <p:cNvPicPr/>
          <p:nvPr/>
        </p:nvPicPr>
        <p:blipFill>
          <a:blip r:embed="rId1"/>
          <a:stretch/>
        </p:blipFill>
        <p:spPr>
          <a:xfrm rot="21065400">
            <a:off x="285840" y="239400"/>
            <a:ext cx="3397320" cy="39654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5ebc70ac5d3a366bb05e04ed31d2bcb3.png"/>
          <p:cNvPicPr/>
          <p:nvPr/>
        </p:nvPicPr>
        <p:blipFill>
          <a:blip r:embed="rId2"/>
          <a:stretch/>
        </p:blipFill>
        <p:spPr>
          <a:xfrm rot="475800">
            <a:off x="3236400" y="3646440"/>
            <a:ext cx="4403880" cy="29782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" descr="QQ图片20160821211513.png"/>
          <p:cNvPicPr/>
          <p:nvPr/>
        </p:nvPicPr>
        <p:blipFill>
          <a:blip r:embed="rId3"/>
          <a:stretch/>
        </p:blipFill>
        <p:spPr>
          <a:xfrm rot="483000">
            <a:off x="5210280" y="212760"/>
            <a:ext cx="32670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-142920" y="773280"/>
            <a:ext cx="9457200" cy="2798640"/>
            <a:chOff x="-142920" y="773280"/>
            <a:chExt cx="9457200" cy="2798640"/>
          </a:xfrm>
        </p:grpSpPr>
        <p:grpSp>
          <p:nvGrpSpPr>
            <p:cNvPr id="607" name="Group 3"/>
            <p:cNvGrpSpPr/>
            <p:nvPr/>
          </p:nvGrpSpPr>
          <p:grpSpPr>
            <a:xfrm>
              <a:off x="-142920" y="773280"/>
              <a:ext cx="9457200" cy="2798640"/>
              <a:chOff x="-142920" y="773280"/>
              <a:chExt cx="9457200" cy="2798640"/>
            </a:xfrm>
          </p:grpSpPr>
          <p:grpSp>
            <p:nvGrpSpPr>
              <p:cNvPr id="608" name="Group 4"/>
              <p:cNvGrpSpPr/>
              <p:nvPr/>
            </p:nvGrpSpPr>
            <p:grpSpPr>
              <a:xfrm>
                <a:off x="-142920" y="773280"/>
                <a:ext cx="9457200" cy="2798640"/>
                <a:chOff x="-142920" y="773280"/>
                <a:chExt cx="9457200" cy="2798640"/>
              </a:xfrm>
            </p:grpSpPr>
            <p:pic>
              <p:nvPicPr>
                <p:cNvPr id="609" name="Picture 11" descr="768045_133721034142_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142920" y="773280"/>
                  <a:ext cx="2311560" cy="279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12" descr="图片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74960" y="2191320"/>
                  <a:ext cx="7339320" cy="135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1" name="Text Box 18"/>
              <p:cNvSpPr/>
              <p:nvPr/>
            </p:nvSpPr>
            <p:spPr>
              <a:xfrm>
                <a:off x="2460600" y="223344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天地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2" name="Text Box 19"/>
              <p:cNvSpPr/>
              <p:nvPr/>
            </p:nvSpPr>
            <p:spPr>
              <a:xfrm>
                <a:off x="4310640" y="225396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你我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3" name="Text Box 20"/>
              <p:cNvSpPr/>
              <p:nvPr/>
            </p:nvSpPr>
            <p:spPr>
              <a:xfrm>
                <a:off x="6082200" y="223344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主人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4" name="Text Box 21"/>
              <p:cNvSpPr/>
              <p:nvPr/>
            </p:nvSpPr>
            <p:spPr>
              <a:xfrm>
                <a:off x="7809840" y="225396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他家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15" name="AutoShape 42"/>
            <p:cNvSpPr/>
            <p:nvPr/>
          </p:nvSpPr>
          <p:spPr>
            <a:xfrm rot="5400000">
              <a:off x="287028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AutoShape 46"/>
            <p:cNvSpPr/>
            <p:nvPr/>
          </p:nvSpPr>
          <p:spPr>
            <a:xfrm rot="5400000">
              <a:off x="4642560" y="1310400"/>
              <a:ext cx="213120" cy="169488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360 h 1694880"/>
                <a:gd name="textAreaBottom" fmla="*/ 1235520 h 169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AutoShape 51"/>
            <p:cNvSpPr/>
            <p:nvPr/>
          </p:nvSpPr>
          <p:spPr>
            <a:xfrm rot="5400000">
              <a:off x="649188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AutoShape 54"/>
            <p:cNvSpPr/>
            <p:nvPr/>
          </p:nvSpPr>
          <p:spPr>
            <a:xfrm rot="5400000">
              <a:off x="826380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9" name="Group 15"/>
          <p:cNvGrpSpPr/>
          <p:nvPr/>
        </p:nvGrpSpPr>
        <p:grpSpPr>
          <a:xfrm>
            <a:off x="-214200" y="3571920"/>
            <a:ext cx="9385560" cy="2665440"/>
            <a:chOff x="-214200" y="3571920"/>
            <a:chExt cx="9385560" cy="2665440"/>
          </a:xfrm>
        </p:grpSpPr>
        <p:pic>
          <p:nvPicPr>
            <p:cNvPr id="620" name="Picture 61" descr="768045_133721034142_2"/>
            <p:cNvPicPr/>
            <p:nvPr/>
          </p:nvPicPr>
          <p:blipFill>
            <a:blip r:embed="rId3"/>
            <a:stretch/>
          </p:blipFill>
          <p:spPr>
            <a:xfrm>
              <a:off x="-214200" y="3571920"/>
              <a:ext cx="242856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Group 17"/>
            <p:cNvGrpSpPr/>
            <p:nvPr/>
          </p:nvGrpSpPr>
          <p:grpSpPr>
            <a:xfrm>
              <a:off x="2018880" y="4871520"/>
              <a:ext cx="7152480" cy="1362240"/>
              <a:chOff x="2018880" y="4871520"/>
              <a:chExt cx="7152480" cy="1362240"/>
            </a:xfrm>
          </p:grpSpPr>
          <p:grpSp>
            <p:nvGrpSpPr>
              <p:cNvPr id="622" name="Group 18"/>
              <p:cNvGrpSpPr/>
              <p:nvPr/>
            </p:nvGrpSpPr>
            <p:grpSpPr>
              <a:xfrm>
                <a:off x="2018880" y="4996080"/>
                <a:ext cx="7152480" cy="1237680"/>
                <a:chOff x="2018880" y="4996080"/>
                <a:chExt cx="7152480" cy="1237680"/>
              </a:xfrm>
            </p:grpSpPr>
            <p:pic>
              <p:nvPicPr>
                <p:cNvPr id="623" name="Picture 13" descr="图片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18880" y="4996080"/>
                  <a:ext cx="7152480" cy="123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Text Box 22"/>
                <p:cNvSpPr/>
                <p:nvPr/>
              </p:nvSpPr>
              <p:spPr>
                <a:xfrm>
                  <a:off x="2498760" y="51634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天天开心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5" name="Text Box 23"/>
                <p:cNvSpPr/>
                <p:nvPr/>
              </p:nvSpPr>
              <p:spPr>
                <a:xfrm>
                  <a:off x="4322880" y="5163480"/>
                  <a:ext cx="991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你好我好 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6" name="Text Box 24"/>
                <p:cNvSpPr/>
                <p:nvPr/>
              </p:nvSpPr>
              <p:spPr>
                <a:xfrm>
                  <a:off x="5868360" y="5163480"/>
                  <a:ext cx="1212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r>
                    <a:rPr b="0" i="1" lang="zh-CN" sz="28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我的名字</a:t>
                  </a:r>
                  <a:endPara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7" name="Text Box 25"/>
                <p:cNvSpPr/>
                <p:nvPr/>
              </p:nvSpPr>
              <p:spPr>
                <a:xfrm>
                  <a:off x="7797240" y="5140440"/>
                  <a:ext cx="87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r>
                    <a:rPr b="0" i="1" lang="zh-CN" sz="28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地方</a:t>
                  </a: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endPara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28" name="AutoShape 43"/>
              <p:cNvSpPr/>
              <p:nvPr/>
            </p:nvSpPr>
            <p:spPr>
              <a:xfrm rot="5400000">
                <a:off x="291600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9" name="AutoShape 48"/>
              <p:cNvSpPr/>
              <p:nvPr/>
            </p:nvSpPr>
            <p:spPr>
              <a:xfrm rot="5400000">
                <a:off x="464256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0" name="AutoShape 52"/>
              <p:cNvSpPr/>
              <p:nvPr/>
            </p:nvSpPr>
            <p:spPr>
              <a:xfrm rot="5400000">
                <a:off x="637092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1" name="AutoShape 55"/>
              <p:cNvSpPr/>
              <p:nvPr/>
            </p:nvSpPr>
            <p:spPr>
              <a:xfrm rot="5400000">
                <a:off x="817200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32" name="TextBox 27"/>
          <p:cNvSpPr/>
          <p:nvPr/>
        </p:nvSpPr>
        <p:spPr>
          <a:xfrm>
            <a:off x="3117960" y="428760"/>
            <a:ext cx="3541320" cy="91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天 地 人 你 我 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3"/>
          <p:cNvGrpSpPr/>
          <p:nvPr/>
        </p:nvGrpSpPr>
        <p:grpSpPr>
          <a:xfrm>
            <a:off x="3348000" y="571680"/>
            <a:ext cx="2160720" cy="2379960"/>
            <a:chOff x="3348000" y="571680"/>
            <a:chExt cx="2160720" cy="2379960"/>
          </a:xfrm>
        </p:grpSpPr>
        <p:grpSp>
          <p:nvGrpSpPr>
            <p:cNvPr id="513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14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16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7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19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21" name="Text Box 11"/>
            <p:cNvSpPr/>
            <p:nvPr/>
          </p:nvSpPr>
          <p:spPr>
            <a:xfrm>
              <a:off x="3414600" y="571680"/>
              <a:ext cx="19432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天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22" name="图片 14" descr="图片IMG_4346 (3).JPG"/>
          <p:cNvPicPr/>
          <p:nvPr/>
        </p:nvPicPr>
        <p:blipFill>
          <a:blip r:embed="rId1"/>
          <a:stretch/>
        </p:blipFill>
        <p:spPr>
          <a:xfrm>
            <a:off x="1143000" y="3643200"/>
            <a:ext cx="1857240" cy="24400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5" descr="图片IMG_4346 (2).JPG"/>
          <p:cNvPicPr/>
          <p:nvPr/>
        </p:nvPicPr>
        <p:blipFill>
          <a:blip r:embed="rId2"/>
          <a:stretch/>
        </p:blipFill>
        <p:spPr>
          <a:xfrm>
            <a:off x="5786280" y="3643200"/>
            <a:ext cx="1625760" cy="2457720"/>
          </a:xfrm>
          <a:prstGeom prst="rect">
            <a:avLst/>
          </a:prstGeom>
          <a:ln w="0">
            <a:noFill/>
          </a:ln>
        </p:spPr>
      </p:pic>
      <p:sp>
        <p:nvSpPr>
          <p:cNvPr id="524" name="矩形 16"/>
          <p:cNvSpPr/>
          <p:nvPr/>
        </p:nvSpPr>
        <p:spPr>
          <a:xfrm>
            <a:off x="3429000" y="3643200"/>
            <a:ext cx="1928880" cy="242892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天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3"/>
          <p:cNvGrpSpPr/>
          <p:nvPr/>
        </p:nvGrpSpPr>
        <p:grpSpPr>
          <a:xfrm>
            <a:off x="3348000" y="428760"/>
            <a:ext cx="2160720" cy="2423880"/>
            <a:chOff x="3348000" y="428760"/>
            <a:chExt cx="2160720" cy="2423880"/>
          </a:xfrm>
        </p:grpSpPr>
        <p:grpSp>
          <p:nvGrpSpPr>
            <p:cNvPr id="526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27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29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32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34" name="Text Box 11"/>
            <p:cNvSpPr/>
            <p:nvPr/>
          </p:nvSpPr>
          <p:spPr>
            <a:xfrm>
              <a:off x="3486240" y="428760"/>
              <a:ext cx="1942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地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5" name="矩形 16"/>
          <p:cNvSpPr/>
          <p:nvPr/>
        </p:nvSpPr>
        <p:spPr>
          <a:xfrm>
            <a:off x="6072120" y="3643200"/>
            <a:ext cx="2071800" cy="23576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地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6" name="图片 10" descr="图片IMG_4347 (2).JPG"/>
          <p:cNvPicPr/>
          <p:nvPr/>
        </p:nvPicPr>
        <p:blipFill>
          <a:blip r:embed="rId1"/>
          <a:stretch/>
        </p:blipFill>
        <p:spPr>
          <a:xfrm>
            <a:off x="1000080" y="371484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1" descr="图片IMG_4349 (2).JPG"/>
          <p:cNvPicPr/>
          <p:nvPr/>
        </p:nvPicPr>
        <p:blipFill>
          <a:blip r:embed="rId2"/>
          <a:stretch/>
        </p:blipFill>
        <p:spPr>
          <a:xfrm>
            <a:off x="3357720" y="3710160"/>
            <a:ext cx="2143080" cy="22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3"/>
          <p:cNvGrpSpPr/>
          <p:nvPr/>
        </p:nvGrpSpPr>
        <p:grpSpPr>
          <a:xfrm>
            <a:off x="3348000" y="500040"/>
            <a:ext cx="2160720" cy="2379960"/>
            <a:chOff x="3348000" y="500040"/>
            <a:chExt cx="2160720" cy="2379960"/>
          </a:xfrm>
        </p:grpSpPr>
        <p:grpSp>
          <p:nvGrpSpPr>
            <p:cNvPr id="539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40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42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3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45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6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47" name="Text Box 11"/>
            <p:cNvSpPr/>
            <p:nvPr/>
          </p:nvSpPr>
          <p:spPr>
            <a:xfrm>
              <a:off x="3486240" y="500040"/>
              <a:ext cx="1942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人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8" name="矩形 16"/>
          <p:cNvSpPr/>
          <p:nvPr/>
        </p:nvSpPr>
        <p:spPr>
          <a:xfrm>
            <a:off x="3643200" y="3571920"/>
            <a:ext cx="2000520" cy="235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人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9" name="图片 10" descr="图片IMG_4348 (2).JPG"/>
          <p:cNvPicPr/>
          <p:nvPr/>
        </p:nvPicPr>
        <p:blipFill>
          <a:blip r:embed="rId1"/>
          <a:stretch/>
        </p:blipFill>
        <p:spPr>
          <a:xfrm>
            <a:off x="1214280" y="3643200"/>
            <a:ext cx="1857600" cy="2222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图片IMG_4348 (3).JPG"/>
          <p:cNvPicPr/>
          <p:nvPr/>
        </p:nvPicPr>
        <p:blipFill>
          <a:blip r:embed="rId2"/>
          <a:stretch/>
        </p:blipFill>
        <p:spPr>
          <a:xfrm>
            <a:off x="6286680" y="1170000"/>
            <a:ext cx="2300040" cy="47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5"/>
          <p:cNvSpPr/>
          <p:nvPr/>
        </p:nvSpPr>
        <p:spPr>
          <a:xfrm>
            <a:off x="785880" y="2214720"/>
            <a:ext cx="2012760" cy="192852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天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椭圆 11"/>
          <p:cNvSpPr/>
          <p:nvPr/>
        </p:nvSpPr>
        <p:spPr>
          <a:xfrm>
            <a:off x="3571920" y="21430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地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椭圆 12"/>
          <p:cNvSpPr/>
          <p:nvPr/>
        </p:nvSpPr>
        <p:spPr>
          <a:xfrm>
            <a:off x="6357960" y="21430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人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矩形 9"/>
          <p:cNvSpPr/>
          <p:nvPr/>
        </p:nvSpPr>
        <p:spPr>
          <a:xfrm>
            <a:off x="1797480" y="428760"/>
            <a:ext cx="256284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《</a:t>
            </a:r>
            <a:r>
              <a:rPr b="0" i="1" lang="zh-CN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三字经</a:t>
            </a:r>
            <a:r>
              <a:rPr b="0" i="1" lang="en-US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》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三才者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天地人</a:t>
            </a:r>
            <a:r>
              <a:rPr b="0" i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928800" y="4857840"/>
            <a:ext cx="7858080" cy="825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三才，就是天、地、人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天地人合一，有了这三个方面，世界才开始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矩形 1639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13" descr="20100819104304225 (2).jpg"/>
          <p:cNvPicPr/>
          <p:nvPr/>
        </p:nvPicPr>
        <p:blipFill>
          <a:blip r:embed="rId1"/>
          <a:stretch/>
        </p:blipFill>
        <p:spPr>
          <a:xfrm>
            <a:off x="1714680" y="1928880"/>
            <a:ext cx="6286320" cy="3767040"/>
          </a:xfrm>
          <a:prstGeom prst="rect">
            <a:avLst/>
          </a:prstGeom>
          <a:ln w="0">
            <a:noFill/>
          </a:ln>
        </p:spPr>
      </p:pic>
      <p:sp>
        <p:nvSpPr>
          <p:cNvPr id="558" name="椭圆 6"/>
          <p:cNvSpPr/>
          <p:nvPr/>
        </p:nvSpPr>
        <p:spPr>
          <a:xfrm>
            <a:off x="3714840" y="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我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椭圆 7"/>
          <p:cNvSpPr/>
          <p:nvPr/>
        </p:nvSpPr>
        <p:spPr>
          <a:xfrm>
            <a:off x="6715080" y="4500720"/>
            <a:ext cx="2013120" cy="192852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他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椭圆 8"/>
          <p:cNvSpPr/>
          <p:nvPr/>
        </p:nvSpPr>
        <p:spPr>
          <a:xfrm>
            <a:off x="285840" y="257184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你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1"/>
          <p:cNvSpPr/>
          <p:nvPr/>
        </p:nvSpPr>
        <p:spPr>
          <a:xfrm>
            <a:off x="1143000" y="1500120"/>
            <a:ext cx="6572160" cy="106884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你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他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们都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____________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1339920" y="642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2060"/>
                </a:solidFill>
                <a:uFillTx/>
                <a:latin typeface="Franklin Gothic Book"/>
                <a:ea typeface="黑体"/>
              </a:rPr>
              <a:t>说一说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3" name="图片 3" descr="Redocn_2013040913044274 (2).jpg"/>
          <p:cNvPicPr/>
          <p:nvPr/>
        </p:nvPicPr>
        <p:blipFill>
          <a:blip r:embed="rId1"/>
          <a:stretch/>
        </p:blipFill>
        <p:spPr>
          <a:xfrm>
            <a:off x="1143000" y="2786040"/>
            <a:ext cx="657216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6" descr="Redocn_2013040913044274 (2).jpg"/>
          <p:cNvPicPr/>
          <p:nvPr/>
        </p:nvPicPr>
        <p:blipFill>
          <a:blip r:embed="rId1"/>
          <a:stretch/>
        </p:blipFill>
        <p:spPr>
          <a:xfrm>
            <a:off x="3214800" y="1500120"/>
            <a:ext cx="5707080" cy="3438720"/>
          </a:xfrm>
          <a:prstGeom prst="rect">
            <a:avLst/>
          </a:prstGeom>
          <a:ln w="0">
            <a:noFill/>
          </a:ln>
        </p:spPr>
      </p:pic>
      <p:pic>
        <p:nvPicPr>
          <p:cNvPr id="565" name="你的名字叫什么.mp3" descr=""/>
          <p:cNvPicPr/>
          <p:nvPr/>
        </p:nvPicPr>
        <p:blipFill>
          <a:blip r:embed="rId2"/>
          <a:stretch/>
        </p:blipFill>
        <p:spPr>
          <a:xfrm>
            <a:off x="3500280" y="1500120"/>
            <a:ext cx="438480" cy="438120"/>
          </a:xfrm>
          <a:prstGeom prst="rect">
            <a:avLst/>
          </a:prstGeom>
          <a:ln w="0">
            <a:noFill/>
          </a:ln>
        </p:spPr>
      </p:pic>
      <p:sp>
        <p:nvSpPr>
          <p:cNvPr id="566" name="矩形 4"/>
          <p:cNvSpPr/>
          <p:nvPr/>
        </p:nvSpPr>
        <p:spPr>
          <a:xfrm>
            <a:off x="500040" y="1071720"/>
            <a:ext cx="307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真好听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我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9969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2ab5c708a67bc4036b60fb88"/>
          <p:cNvPicPr/>
          <p:nvPr/>
        </p:nvPicPr>
        <p:blipFill>
          <a:blip r:embed="rId1"/>
          <a:stretch/>
        </p:blipFill>
        <p:spPr>
          <a:xfrm>
            <a:off x="112680" y="0"/>
            <a:ext cx="9828360" cy="742320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3"/>
          <p:cNvGrpSpPr/>
          <p:nvPr/>
        </p:nvGrpSpPr>
        <p:grpSpPr>
          <a:xfrm>
            <a:off x="3203640" y="1484280"/>
            <a:ext cx="1296720" cy="1323720"/>
            <a:chOff x="3203640" y="1484280"/>
            <a:chExt cx="1296720" cy="1323720"/>
          </a:xfrm>
        </p:grpSpPr>
        <p:pic>
          <p:nvPicPr>
            <p:cNvPr id="569" name="Picture 4" descr="25"/>
            <p:cNvPicPr/>
            <p:nvPr/>
          </p:nvPicPr>
          <p:blipFill>
            <a:blip r:embed="rId2"/>
            <a:stretch/>
          </p:blipFill>
          <p:spPr>
            <a:xfrm>
              <a:off x="3203640" y="1484280"/>
              <a:ext cx="119124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5"/>
            <p:cNvSpPr/>
            <p:nvPr/>
          </p:nvSpPr>
          <p:spPr>
            <a:xfrm>
              <a:off x="3304800" y="19105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我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1" name="Group 9"/>
          <p:cNvGrpSpPr/>
          <p:nvPr/>
        </p:nvGrpSpPr>
        <p:grpSpPr>
          <a:xfrm>
            <a:off x="3132000" y="3068640"/>
            <a:ext cx="1294920" cy="1323720"/>
            <a:chOff x="3132000" y="3068640"/>
            <a:chExt cx="1294920" cy="1323720"/>
          </a:xfrm>
        </p:grpSpPr>
        <p:pic>
          <p:nvPicPr>
            <p:cNvPr id="572" name="Picture 10" descr="25"/>
            <p:cNvPicPr/>
            <p:nvPr/>
          </p:nvPicPr>
          <p:blipFill>
            <a:blip r:embed="rId3"/>
            <a:stretch/>
          </p:blipFill>
          <p:spPr>
            <a:xfrm>
              <a:off x="3132000" y="3068640"/>
              <a:ext cx="118980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11"/>
            <p:cNvSpPr/>
            <p:nvPr/>
          </p:nvSpPr>
          <p:spPr>
            <a:xfrm>
              <a:off x="3232800" y="349488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他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4" name="Group 15"/>
          <p:cNvGrpSpPr/>
          <p:nvPr/>
        </p:nvGrpSpPr>
        <p:grpSpPr>
          <a:xfrm>
            <a:off x="6715080" y="2998800"/>
            <a:ext cx="1312560" cy="1252080"/>
            <a:chOff x="6715080" y="2998800"/>
            <a:chExt cx="1312560" cy="1252080"/>
          </a:xfrm>
        </p:grpSpPr>
        <p:pic>
          <p:nvPicPr>
            <p:cNvPr id="575" name="Picture 16" descr="25"/>
            <p:cNvPicPr/>
            <p:nvPr/>
          </p:nvPicPr>
          <p:blipFill>
            <a:blip r:embed="rId4"/>
            <a:stretch/>
          </p:blipFill>
          <p:spPr>
            <a:xfrm>
              <a:off x="6715080" y="2998800"/>
              <a:ext cx="1189800" cy="12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17"/>
            <p:cNvSpPr/>
            <p:nvPr/>
          </p:nvSpPr>
          <p:spPr>
            <a:xfrm>
              <a:off x="6833520" y="339984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地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7" name="Group 18"/>
          <p:cNvGrpSpPr/>
          <p:nvPr/>
        </p:nvGrpSpPr>
        <p:grpSpPr>
          <a:xfrm>
            <a:off x="4857840" y="2357280"/>
            <a:ext cx="1438920" cy="1223640"/>
            <a:chOff x="4857840" y="2357280"/>
            <a:chExt cx="1438920" cy="1223640"/>
          </a:xfrm>
        </p:grpSpPr>
        <p:pic>
          <p:nvPicPr>
            <p:cNvPr id="578" name="Picture 19" descr="25"/>
            <p:cNvPicPr/>
            <p:nvPr/>
          </p:nvPicPr>
          <p:blipFill>
            <a:blip r:embed="rId5"/>
            <a:stretch/>
          </p:blipFill>
          <p:spPr>
            <a:xfrm>
              <a:off x="4857840" y="2357280"/>
              <a:ext cx="1321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20"/>
            <p:cNvSpPr/>
            <p:nvPr/>
          </p:nvSpPr>
          <p:spPr>
            <a:xfrm>
              <a:off x="4969800" y="2751120"/>
              <a:ext cx="13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人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0" name="WordArt 22"/>
          <p:cNvSpPr txBox="1"/>
          <p:nvPr/>
        </p:nvSpPr>
        <p:spPr>
          <a:xfrm>
            <a:off x="539640" y="260280"/>
            <a:ext cx="21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隶书"/>
              </a:rPr>
              <a:t>我会摘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隶书"/>
              <a:ea typeface="隶书"/>
            </a:endParaRPr>
          </a:p>
        </p:txBody>
      </p:sp>
      <p:grpSp>
        <p:nvGrpSpPr>
          <p:cNvPr id="581" name="Group 23"/>
          <p:cNvGrpSpPr/>
          <p:nvPr/>
        </p:nvGrpSpPr>
        <p:grpSpPr>
          <a:xfrm>
            <a:off x="1641600" y="2143080"/>
            <a:ext cx="1343880" cy="1294920"/>
            <a:chOff x="1641600" y="2143080"/>
            <a:chExt cx="1343880" cy="1294920"/>
          </a:xfrm>
        </p:grpSpPr>
        <p:pic>
          <p:nvPicPr>
            <p:cNvPr id="582" name="Picture 24" descr="25"/>
            <p:cNvPicPr/>
            <p:nvPr/>
          </p:nvPicPr>
          <p:blipFill>
            <a:blip r:embed="rId6"/>
            <a:stretch/>
          </p:blipFill>
          <p:spPr>
            <a:xfrm>
              <a:off x="1641600" y="2143080"/>
              <a:ext cx="112464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25"/>
            <p:cNvSpPr/>
            <p:nvPr/>
          </p:nvSpPr>
          <p:spPr>
            <a:xfrm>
              <a:off x="1856880" y="250056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你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4" name="Group 26"/>
          <p:cNvGrpSpPr/>
          <p:nvPr/>
        </p:nvGrpSpPr>
        <p:grpSpPr>
          <a:xfrm>
            <a:off x="6443640" y="1484280"/>
            <a:ext cx="1223640" cy="1223640"/>
            <a:chOff x="6443640" y="1484280"/>
            <a:chExt cx="1223640" cy="1223640"/>
          </a:xfrm>
        </p:grpSpPr>
        <p:pic>
          <p:nvPicPr>
            <p:cNvPr id="585" name="Picture 27" descr="25"/>
            <p:cNvPicPr/>
            <p:nvPr/>
          </p:nvPicPr>
          <p:blipFill>
            <a:blip r:embed="rId7"/>
            <a:stretch/>
          </p:blipFill>
          <p:spPr>
            <a:xfrm>
              <a:off x="6443640" y="1484280"/>
              <a:ext cx="1123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28"/>
            <p:cNvSpPr/>
            <p:nvPr/>
          </p:nvSpPr>
          <p:spPr>
            <a:xfrm>
              <a:off x="6539040" y="1878120"/>
              <a:ext cx="112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天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7" name="矩形 20501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C 0.00312 0.00994 0.00659 0.0185 0.01111 0.02752 C 0.01354 0.0407 0.01146 0.03353 0.01909 0.04833 C 0.02257 0.05504 0.02361 0.06267 0.02708 0.06961 C 0.02916 0.08071 0.03003 0.09204 0.03177 0.10338 C 0.03107 0.14292 0.03298 0.1864 0.02552 0.22595 C 0.02604 0.26665 0.02222 0.31614 0.03021 0.35893 C 0.03246 0.38321 0.03646 0.40611 0.02864 0.43085 C 0.021 0.45467 0.00607 0.47294 3.33333E-006 0.49815 C 0.00034 0.49977 0.00225 0.51087 0.0033 0.51295 C 0.00555 0.51688 0.00937 0.51919 0.01111 0.52359 C 0.01527 0.53423 0.01319 0.52937 0.01753 0.53839 C 0.01649 0.55388 0.01666 0.56961 0.01441 0.58487 C 0.01389 0.58788 0.01076 0.58858 0.00955 0.59112 C 0.00729 0.59551 0.00659 0.60106 0.00486 0.60592 C 0.00833 0.62049 0.00642 0.61008 0.00642 0.6376 E">
                                      <p:cBhvr>
                                        <p:cTn id="150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36 -0.15402 C -0.0677 -0.09436 -0.05989 0.01734 -0.07135 0.09389 C -0.07239 0.11494 -0.07395 0.13529 -0.07499 0.15657 C -0.07395 0.19311 -0.06961 0.23682 -0.07499 0.27266 C -0.0769 0.28561 -0.0809 0.29301 -0.08385 0.30435 C -0.08524 0.31776 -0.08697 0.32146 -0.0901 0.33256 C -0.0894 0.34621 -0.09045 0.36355 -0.08506 0.37049 E">
                                      <p:cBhvr>
                                        <p:cTn id="155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151 -0.019503 C -0.113641 -0.010943 -0.115721 -0.009093 -0.111041 0.001547 C -0.108951 0.006397 -0.105651 0.009867 -0.103051 0.014257 C -0.099931 0.027447 -0.093501 0.039467 -0.088811 0.052187 C -0.087081 0.056817 -0.086901 0.062137 -0.085691 0.066987 C -0.086901 0.110007 -0.088121 0.150477 -0.098361 0.191417 C -0.097151 0.219397 -0.099231 0.237667 -0.082561 0.254777 C -0.079441 0.266107 -0.071451 0.274207 -0.066591 0.284147 C -0.061731 0.316987 -0.064681 0.351217 -0.071451 0.383367 C -0.070931 0.388217 -0.071451 0.393767 -0.069721 0.398167 C -0.067461 0.404177 -0.059471 0.411577 -0.055481 0.417357 C -0.053401 0.425457 -0.054271 0.427997 -0.058611 0.434017 C -0.061041 0.442797 -0.061901 0.447657 -0.061901 0.457137 E">
                                      <p:cBhvr>
                                        <p:cTn id="160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0.05574 C 0.03611 0.0754 0.04375 0.09251 0.05052 0.11078 C 0.05416 0.12072 0.05486 0.13391 0.05694 0.14454 C 0.06232 0.17183 0.05312 0.13044 0.06319 0.16351 C 0.06528 0.17045 0.06805 0.18478 0.06805 0.18502 C 0.06753 0.20514 0.06632 0.22572 0.06632 0.24607 C 0.06632 0.25185 0.06632 0.25787 0.06805 0.26295 C 0.0691 0.26619 0.07239 0.26688 0.0743 0.26943 C 0.08351 0.28192 0.09601 0.29232 0.1092 0.29672 C 0.12101 0.30736 0.11649 0.30111 0.12361 0.31383 C 0.12673 0.33048 0.12673 0.3476 0.13628 0.36032 C 0.13489 0.36795 0.13246 0.37234 0.12986 0.37928 E">
                                      <p:cBhvr>
                                        <p:cTn id="165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14 0.12373 C -0.0434 0.13714 -0.04201 0.14454 -0.03559 0.15518 C -0.03264 0.16628 -0.0309 0.16559 -0.02917 0.17923 C -0.02969 0.20282 -0.02951 0.22664 -0.03073 0.25023 C -0.0316 0.26642 -0.03542 0.28192 -0.03715 0.29787 C -0.03767 0.30204 -0.0408 0.30551 -0.04184 0.30967 C -0.04063 0.31915 -0.03628 0.33233 -0.04028 0.34135 C -0.0467 0.35638 -0.04931 0.34968 -0.05625 0.35939 C -0.05868 0.36286 -0.0625 0.37119 -0.0625 0.37142 C -0.06684 0.38784 -0.06458 0.39478 -0.0625 0.41258 C -0.06163 0.43617 -0.06233 0.46462 -0.05625 0.48798 C -0.05313 0.52035 -0.06615 0.56083 -0.0467 0.58511 E">
                                      <p:cBhvr>
                                        <p:cTn id="170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916 0.08154 C 0.019646 0.097684 0.021036 0.106593 0.027466 0.119402 C 0.030416 0.132766 0.032146 0.131935 0.033886 0.148356 C 0.033366 0.176756 0.033536 0.205433 0.032326 0.233833 C 0.031456 0.253324 0.027636 0.271984 0.025896 0.291187 C 0.025376 0.296207 0.022256 0.300384 0.021216 0.305393 C 0.022426 0.316805 0.026766 0.332673 0.022776 0.343532 C 0.016356 0.361627 0.013746 0.35356 0.006806 0.36525 C 0.004376 0.369428 0.000556 0.379456 0.000556 0.379733 C -0.003784 0.399501 -0.001534 0.407856 0.000556 0.429286 C 0.001426 0.457686 0.000726 0.491936 0.006806 0.520059 C 0.009926 0.55903 -0.003094 0.607763 0.016356 0.636994 E">
                                      <p:cBhvr>
                                        <p:cTn id="175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06:41:00Z</dcterms:created>
  <dc:creator/>
  <dc:description/>
  <dc:language>en-US</dc:language>
  <cp:lastModifiedBy>万润仪器贸易公司</cp:lastModifiedBy>
  <dcterms:modified xsi:type="dcterms:W3CDTF">2020-08-24T01:35:51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